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1AE-BF0D-43D3-B037-EE65DDB4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121-D6CB-4B3B-A213-C181D8D2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B93-F03F-46CC-B305-1BA87BD1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E9F-10F2-4808-A86B-6FA1B78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61E-DC13-49A9-AB21-C53EB100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A60-234C-4399-8DB2-0E69BE5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633B-F3A6-49CF-A57E-4A50F92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0919-A5D9-489A-B7AF-A3FF896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E6A4-66AC-4E96-8395-926A70B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2D1B-BB0C-499C-8258-5ACD773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676E-CBE0-42B1-8322-81FA7E7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BC1-C3B4-432B-8A39-F96D715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85D-E7EE-43F0-A537-1A1A9BF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9F6-7140-4994-9DAC-D2F5FC7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B36E-BCFB-4742-8ABF-03B9F18C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F7B-C917-4126-BEA7-4A14F3CE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B169-A999-4786-AA31-93BD7229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BC9-5442-401F-B274-76413BCE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A29-AAC5-4D5E-882B-4D4F027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017-E4EB-47A7-B555-BD956A8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AEF-938C-4D24-B256-A3D69BE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3A1-A4C5-4FBA-ACD4-961F3DB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99D-0D76-4975-AC58-2AEAF52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149-7A97-4B6A-8F96-B2E150A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5E3-0C86-47E7-9ACF-20EB516AD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D0F9-E25D-413C-A316-69BF2368E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encarta.msn.com/xrefmedia/sharemed/targets/images/pho/t046/T046403A.jpg&amp;imgrefurl=http://encarta.msn.com/media_461531403/Chemical_Reaction.html&amp;h=340&amp;w=260&amp;sz=12&amp;hl=en&amp;start=3&amp;um=1&amp;tbnid=5POrzEJqv4ix3M:&amp;tbnh=119&amp;tbnw=91&amp;prev=/images%3Fq%3Dchemical%2Breaction%26svnum%3D10%26um%3D1%26hl%3De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jaxian.com/images/survey06-all-large.png&amp;imgrefurl=http://ajaxian.com/archives/ajaxiancom-2006-survey-results&amp;h=676&amp;w=692&amp;sz=37&amp;hl=en&amp;start=1&amp;um=1&amp;tbnid=iQ6J1hi_nsKFpM:&amp;tbnh=136&amp;tbnw=139&amp;prev=/images%3Fq%3Dresults%26svnum%3D10%26um%3D1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Honors Chemistr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hapters 1 + 2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- Matter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assification of Mat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ter CAN change st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e basic states of mat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2362320"/>
          <a:ext cx="8534160" cy="388584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360"/>
              </a:tblGrid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pa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re 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specific type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has mass and takes up space (has property of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mount of stuff in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ce of gravity of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Mixtur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- composed of 2 or more substances physically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eterogeneous- composition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omogeneous (“solution”) - uniform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Substanc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- purely 1 type of matter (elements and compou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KNOW YOU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parating Mixtu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IXTURES CAN BE SEPERATED PHYS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ration- used to separate a mixture with widely varying particle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rocks and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illation- used to separate a liquid mix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 alcohol and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ystallization- used to separate an aqueous mix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salt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matography- separates a mixture based on polarity (affinity for stationary/mobile ph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ill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nges to Mat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812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nge- occurs without altering make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change- occurs through alteration of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2558880"/>
            <a:ext cx="38098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emical Re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involve at least one material changing into a ne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bey the Law of Conservation of M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 is neither created nor destroyed in chemical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156040" cy="281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3427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           vs.        Chemi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- "knowledge attained through study or practice“ (Webste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Systematic approach to determine the nature of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Using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method to investigate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-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tudy of the composition and changes undergone by materi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Using the scientific method to figure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uff is and what it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ve Branches of Chemi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-composition of subst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-behavior of chemical sub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2001960"/>
            <a:ext cx="3733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emistry Can Be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advancement of knowledge about our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specific issue that faces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rmaceutical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cientific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tho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, much la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/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24080" y="0"/>
            <a:ext cx="6019920" cy="6858000"/>
            <a:chOff x="3124080" y="0"/>
            <a:chExt cx="6019920" cy="6858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124080" y="0"/>
              <a:ext cx="6019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3124080" y="0"/>
              <a:ext cx="601992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s a specific prediction based on past experimental results or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in the IF…, THEN… 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ed to INVESTIGATE THE HYPO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and LOOK FOR PATTERNS in experimental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EXPLAIN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WHY for th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es whether or not the results SUPPORT or REFUTE the HYPO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 and future research are offered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16360"/>
            <a:ext cx="35053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4280" y="2666520"/>
            <a:ext cx="3810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s w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815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EXTENSIVE, DIVERSE, AND RELIABLE data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any years of research and support from many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5029200"/>
            <a:ext cx="7086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BEST SCIENCE CAN 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DOES NOT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lit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 sensory observations (EX: br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ntitative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umerical measurem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EX: 5 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Arial"/>
              </a:rPr>
              <a:t>Observation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宋体"/>
              </a:rPr>
              <a:t>objective explanation of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Arial"/>
              </a:rPr>
              <a:t>Inference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宋体"/>
              </a:rPr>
              <a:t>subjective explanation of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8:53:03Z</dcterms:created>
  <dc:creator>cmichene</dc:creator>
  <dc:description/>
  <dc:language>en-US</dc:language>
  <cp:lastModifiedBy>udsd</cp:lastModifiedBy>
  <dcterms:modified xsi:type="dcterms:W3CDTF">2010-06-24T16:46:20Z</dcterms:modified>
  <cp:revision>26</cp:revision>
  <dc:subject/>
  <dc:title>Chapters 1 &amp; 3 </dc:title>
</cp:coreProperties>
</file>